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gif" ContentType="image/gif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20.png" ContentType="image/png"/>
  <Override PartName="/ppt/media/image3.png" ContentType="image/png"/>
  <Override PartName="/ppt/media/image18.gif" ContentType="image/gif"/>
  <Override PartName="/ppt/media/image21.png" ContentType="image/png"/>
  <Override PartName="/ppt/media/image19.png" ContentType="image/png"/>
  <Override PartName="/ppt/media/image17.wmf" ContentType="image/x-wmf"/>
  <Override PartName="/ppt/media/image15.jpeg" ContentType="image/jpeg"/>
  <Override PartName="/ppt/media/image16.wmf" ContentType="image/x-wmf"/>
  <Override PartName="/ppt/media/image1.jpeg" ContentType="image/jpeg"/>
  <Override PartName="/ppt/media/image14.wmf" ContentType="image/x-wmf"/>
  <Override PartName="/ppt/media/image6.png" ContentType="image/png"/>
  <Override PartName="/ppt/media/image10.wmf" ContentType="image/x-wmf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101B3-51CC-41B9-90D2-7CF80F34B3F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me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Date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Period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Topic: Graphing Absolute Value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rm-Up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ve the following system of inequalities by graphing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&lt; 2x + 4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3x – 2y ≥ 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inequality represents the graph below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&lt; x +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≥ x + 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≤ x +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&gt; x + 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Date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Period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Topic: Graphing Absolute Value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rm-Up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 the following system of inequalities by graph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 &lt; 2x + 4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3x – 2y ≥ 6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inequality represents the graph below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 &lt; x +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 ≥ x + 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 ≤ x +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 &gt; x + 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rizontal Movement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solute value special rul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 have minus inside the absolute value, you move to the right on the coordinate pla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=│x - 2 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 have addition inside the absolute value, you move to the left on the coordinate pla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=│x + 2 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rizontal Movemen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olute value special rul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have minus inside the absolute value, you move to the right on the coordinate pla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 =│x - 2 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have addition inside the absolute value, you move to the left on the coordinate pla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 =│x + 2 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Lets Practic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y =│x - 5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y =│x + 6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ts Practic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y =│x - 5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y =│x + 6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Your Turn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y =│x + 4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y =│x - 1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Your Tur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y =│x + 4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y =│x - 1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bout y = │x - 4 │+ 5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bout y = │x - 4 │+ 5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bout y = -│x - 2 │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bout y = -│x - 2 │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= -│x 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e rule, but now it makes it look dow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lection of th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ent-fun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 = -│x 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e rule, but now it makes it look 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lection of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-fu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ractice Time!!!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lgebra Aerobics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) y = │x - 1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2) y = │x +3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3) y = │x │ +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4) y = │x│ -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5) y = │x + 3│ + 3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6) y = │x - 1│+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7) y = -│x - 6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8) y = -│x │-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9) │x│+ y = -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10) y = -│x + 1│ - 1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ractice Time!!!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lgebra Aerobic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) y = │x - 1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) y = │x +3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) y = │x │ +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) y = │x│ -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5) y = │x + 3│ + 3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6) y = │x - 1│+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7) y = -│x - 6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8) y = -│x │-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9) │x│+ y = -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0) y = -│x + 1│ - 1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ix Algebra Aerob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y = │x - 4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y = │x + 5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y = │x │ +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y = -│x + 2│ - 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y = -│x - 7│ + 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4x + 3y ≤ 2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y ≥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x ≥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y ≥ -3x -1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ix Algebra Aerob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y = │x - 4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y = │x + 5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y = │x │ +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y = -│x + 2│ - 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y = -│x - 7│ +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x + 3y ≤ 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y ≥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x ≥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y ≥ -3x -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evie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evie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me-Learning Assignment #5 Review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-Learning Assignment #5 Revie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evie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rbal Comprehension Analys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ph the functions y = │x │ and y = │x - 3 │ together on the same coordinate pla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effect does the 3 have on the graph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ph the functions y = │x │ and y = │x │- 3 on the same coordinate pla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effect does the 3 have on the graph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ph the functions y = │x │ and y = - │x │ together on a coordinate pla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effect does the negative sign have on the graph?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bal Comprehension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ph the functions y = │x │ and y = │x - 3 │ together on the same coordinate pla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effect does the 3 have on the grap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ph the functions y = │x │ and y = │x │- 3 on the same coordinate pla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effect does the 3 have on the grap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ph the functions y = │x │ and y = - │x │ together on a coordinate pla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effect does the negative sign have on the graph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ap-up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view key poi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view vocabulary wor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--- Reminder ---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udy for Exam #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Linear Inequalities, Systems of Inequalities, &amp; Graphing Absolute Value Equation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ap-up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ew key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ew vocabulary w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-- Reminder ---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y for Exam #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Linear Inequalities, Systems of Inequalities, &amp; Graphing Absolute Value Equat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Quiz #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Quiz #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phing Absolute Value Eq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I make one of those V graph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phing Absolute Value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I make one of those V graph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solute value transform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cabulary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lation: shifts the parent function graph horizontally and vertical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lection: it creates a mirror image of the parent-function graph across the line of reflect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olute value transform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bular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lation: shifts the parent function graph horizontally and vertic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lection: it creates a mirror image of the parent-function graph across the line of reflec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Parent Function y = │x 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arent Function y = │x 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rtical Movement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solute value rul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 have minus outside the absolute value, you move down on the coordinate pla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=│x│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 have addition outside the absolute value, you move up on the coordinate pla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=│x│+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tical Movemen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solute value rul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have minus outside the absolute value, you move down on the coordinate pla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 =│x│-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have addition outside the absolute value, you move up on the coordinate pla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 =│x│+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Lets practic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y = │x│ - 4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y = │x│+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Lets practic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y = │x│ - 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y = │x│+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Your turn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y = │x│ + 7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y = │x│ 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Your tur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y = │x│ + 7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y = │x│ -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98DA-D2F9-47A6-9BAB-E22D0F2F9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2017-131C-45D9-8F5B-863E2F75E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3407-977B-4CC8-9D5E-3A4675C27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377C-FFF4-4336-9852-DDEC29449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5D6F4-D18A-413A-AEA6-EF296EC06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72481-E77A-4A1E-ABCC-86D17EF24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9A848-7052-45AD-89EB-10619EBBC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7A849-8642-4E65-B9CB-7086ED59C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10A80-07A7-4BC8-B318-372540ED3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A4EA9-4800-4C20-9A4E-D190E3224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1FF12-284E-44F4-A834-C542931F9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2BB4-6CF4-4D6F-8CAE-10461DA08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E8817-26B0-4EB4-ADCE-859ADF700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D93F8-2ED7-4FE8-B94E-11FCFFD01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40F4A-888D-40EC-BD79-290B18BF9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1193E-141E-4EA1-9984-1636E4EF1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0E8EE-FB1D-44E7-AF8C-C5CBC07F4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989E-B81D-4657-899A-9099CC2DB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F38F-4A50-41EE-AD2B-2ADFAC7E9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3B84-B1B8-42D3-92CE-2305BC3CE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0721-2F7D-4090-A135-2C7656657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ECC8-AACE-4961-A710-A7DA8993F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6BEE-4983-4C32-B88A-EB7A8C217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1046-1CCD-437B-B3A6-E218A4467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79CDC-C0DE-40C2-909C-448AD718BD0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3CA30-7351-4848-8C23-A4CB9354930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1.gi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math12.vln.dreamhosters.com/images/math12.vln.dreamhosters.com/1/16/F(x)_%253D_-absolute_x.jpg&amp;imgrefurl=http://math12.vln.dreamhosters.com/wiki/Polynomic_Functions&amp;usg=__01xGfS9cAeUdBo2sUga4zfy0eZY=&amp;h=259&amp;w=576&amp;sz=18&amp;hl=en&amp;start=13&amp;zoom=1&amp;um=1&amp;itbs=1&amp;tbnid=0GX4kbien9YOvM:&amp;tbnh=60&amp;tbnw=134&amp;prev=/images%3Fq%3Dnegative%2Babsolute%2Bvalue%2Bfunction%2Bgraph%26um%3D1%26hl%3Den%26safe%3Dactive%26sa%3DN%26ndsp%3D20%26tbs%3Disch:1&amp;ei=bzhdTduPLMWblgeI6LDYCg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2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33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330033"/>
                </a:solidFill>
                <a:latin typeface="Times New Roman"/>
              </a:rPr>
              <a:t>Name:</a:t>
            </a:r>
            <a:br>
              <a:rPr sz="2000"/>
            </a:br>
            <a:r>
              <a:rPr b="1" lang="en-US" sz="2000" spc="-1" strike="noStrike">
                <a:solidFill>
                  <a:srgbClr val="330033"/>
                </a:solidFill>
                <a:latin typeface="Times New Roman"/>
              </a:rPr>
              <a:t>        Date:</a:t>
            </a:r>
            <a:br>
              <a:rPr sz="2000"/>
            </a:br>
            <a:r>
              <a:rPr b="1" lang="en-US" sz="2000" spc="-1" strike="noStrike">
                <a:solidFill>
                  <a:srgbClr val="330033"/>
                </a:solidFill>
                <a:latin typeface="Times New Roman"/>
              </a:rPr>
              <a:t>        Period:</a:t>
            </a:r>
            <a:br>
              <a:rPr sz="2000"/>
            </a:b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   </a:t>
            </a:r>
            <a:r>
              <a:rPr b="0" lang="en-US" sz="4200" spc="-1" strike="noStrike" u="sng">
                <a:solidFill>
                  <a:srgbClr val="330033"/>
                </a:solidFill>
                <a:uFillTx/>
                <a:latin typeface="Times New Roman"/>
              </a:rPr>
              <a:t>Topic: </a:t>
            </a:r>
            <a:r>
              <a:rPr b="1" lang="en-US" sz="3200" spc="-1" strike="noStrike" u="sng">
                <a:solidFill>
                  <a:srgbClr val="330033"/>
                </a:solidFill>
                <a:uFillTx/>
                <a:latin typeface="Times New Roman"/>
              </a:rPr>
              <a:t>Graphing Absolute Value Equations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53352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Warm-Up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lve the following system of inequalities by graph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 &lt; 2x + 4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3x – 2y ≥ 6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ich inequality represents the graph belo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 &lt; x +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 ≥ x + 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 ≤ x +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 &gt; x + 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952880" y="4302000"/>
          <a:ext cx="3581640" cy="2560680"/>
        </p:xfrm>
        <a:graphic>
          <a:graphicData uri="http://schemas.openxmlformats.org/drawingml/2006/table">
            <a:tbl>
              <a:tblPr/>
              <a:tblGrid>
                <a:gridCol w="358920"/>
                <a:gridCol w="357120"/>
                <a:gridCol w="358920"/>
                <a:gridCol w="357120"/>
                <a:gridCol w="358920"/>
                <a:gridCol w="358560"/>
                <a:gridCol w="357120"/>
                <a:gridCol w="358920"/>
                <a:gridCol w="357120"/>
                <a:gridCol w="358920"/>
              </a:tblGrid>
              <a:tr h="3654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</a:tr>
              <a:tr h="3664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</a:tr>
              <a:tr h="3650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</a:tr>
              <a:tr h="366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</a:tr>
              <a:tr h="3650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</a:tr>
              <a:tr h="366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</a:tr>
              <a:tr h="3650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10061"/>
                    </a:solidFill>
                  </a:tcPr>
                </a:tc>
              </a:tr>
            </a:tbl>
          </a:graphicData>
        </a:graphic>
      </p:graphicFrame>
      <p:cxnSp>
        <p:nvCxnSpPr>
          <p:cNvPr id="107" name="Straight Arrow Connector 6"/>
          <p:cNvCxnSpPr/>
          <p:nvPr/>
        </p:nvCxnSpPr>
        <p:spPr>
          <a:xfrm>
            <a:off x="6400440" y="4267080"/>
            <a:ext cx="1080" cy="27439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08" name="Straight Arrow Connector 10"/>
          <p:cNvCxnSpPr/>
          <p:nvPr/>
        </p:nvCxnSpPr>
        <p:spPr>
          <a:xfrm flipH="1">
            <a:off x="4876200" y="5790960"/>
            <a:ext cx="373428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09" name="Straight Arrow Connector 27"/>
          <p:cNvCxnSpPr/>
          <p:nvPr/>
        </p:nvCxnSpPr>
        <p:spPr>
          <a:xfrm flipV="1">
            <a:off x="4952520" y="4191120"/>
            <a:ext cx="2591640" cy="26672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headEnd len="med" type="arrow" w="med"/>
            <a:tailEnd len="med" type="arrow" w="med"/>
          </a:ln>
        </p:spPr>
      </p:cxnSp>
      <p:sp>
        <p:nvSpPr>
          <p:cNvPr id="11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Horizontal Movements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solute value special ru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you have minus inside the absolute value, you move to the right on the coordinate plan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y =│x - 2 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you have addition inside the absolute value, you move to the left on the coordinate plan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y =│x + 2 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2" descr="C:\Documents and Settings\275602\Local Settings\Temporary Internet Files\Content.IE5\8CZ25BBI\MC900434403[1].wmf"/>
          <p:cNvPicPr/>
          <p:nvPr/>
        </p:nvPicPr>
        <p:blipFill>
          <a:blip r:embed="rId1"/>
          <a:stretch/>
        </p:blipFill>
        <p:spPr>
          <a:xfrm>
            <a:off x="7848720" y="457200"/>
            <a:ext cx="604800" cy="84780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Lets Practice!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y =│x - 5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y =│x + 6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Your Turn!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y =│x + 4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y =│x - 1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What about y = 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  <a:ea typeface="Arial"/>
              </a:rPr>
              <a:t>│x - 4 │+ 5</a:t>
            </a:r>
            <a:br>
              <a:rPr sz="4200"/>
            </a:b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52" name="Picture 3" descr="C:\Users\user\AppData\Local\Microsoft\Windows\Temporary Internet Files\Content.IE5\RKD2LOJ0\MM900282747[1].gif"/>
          <p:cNvPicPr/>
          <p:nvPr/>
        </p:nvPicPr>
        <p:blipFill>
          <a:blip r:embed="rId1"/>
          <a:stretch/>
        </p:blipFill>
        <p:spPr>
          <a:xfrm rot="21299400">
            <a:off x="7391520" y="5181480"/>
            <a:ext cx="1295280" cy="1295640"/>
          </a:xfrm>
          <a:prstGeom prst="rect">
            <a:avLst/>
          </a:prstGeom>
          <a:ln w="0">
            <a:noFill/>
          </a:ln>
        </p:spPr>
      </p:pic>
      <p:sp>
        <p:nvSpPr>
          <p:cNvPr id="153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905120" y="2743200"/>
            <a:ext cx="58672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What about y = 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  <a:ea typeface="Arial"/>
              </a:rPr>
              <a:t>-│x - 2 │</a:t>
            </a:r>
            <a:br>
              <a:rPr sz="4200"/>
            </a:b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55" name="Picture 2" descr="C:\Users\user\AppData\Local\Microsoft\Windows\Temporary Internet Files\Content.IE5\FMINL040\MC900383550[1].wmf"/>
          <p:cNvPicPr/>
          <p:nvPr/>
        </p:nvPicPr>
        <p:blipFill>
          <a:blip r:embed="rId1"/>
          <a:stretch/>
        </p:blipFill>
        <p:spPr>
          <a:xfrm rot="21028800">
            <a:off x="685440" y="3429000"/>
            <a:ext cx="1425600" cy="31384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3" descr="C:\Users\user\AppData\Local\Microsoft\Windows\Temporary Internet Files\Content.IE5\RKD2LOJ0\MM900282747[1].gif"/>
          <p:cNvPicPr/>
          <p:nvPr/>
        </p:nvPicPr>
        <p:blipFill>
          <a:blip r:embed="rId2"/>
          <a:stretch/>
        </p:blipFill>
        <p:spPr>
          <a:xfrm>
            <a:off x="7620120" y="152280"/>
            <a:ext cx="1295280" cy="12956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4" descr="C:\Users\user\AppData\Local\Microsoft\Windows\Temporary Internet Files\Content.IE5\NNA2BYPD\MC900293468[1].wmf"/>
          <p:cNvPicPr/>
          <p:nvPr/>
        </p:nvPicPr>
        <p:blipFill>
          <a:blip r:embed="rId3"/>
          <a:stretch/>
        </p:blipFill>
        <p:spPr>
          <a:xfrm>
            <a:off x="685800" y="0"/>
            <a:ext cx="1074600" cy="13716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C:\Users\user\AppData\Local\Microsoft\Windows\Temporary Internet Files\Content.IE5\FMINL040\MC900304311[1].wmf"/>
          <p:cNvPicPr/>
          <p:nvPr/>
        </p:nvPicPr>
        <p:blipFill>
          <a:blip r:embed="rId4"/>
          <a:stretch/>
        </p:blipFill>
        <p:spPr>
          <a:xfrm flipH="1">
            <a:off x="7620120" y="4724280"/>
            <a:ext cx="1295280" cy="1809720"/>
          </a:xfrm>
          <a:prstGeom prst="rect">
            <a:avLst/>
          </a:prstGeom>
          <a:ln w="0">
            <a:noFill/>
          </a:ln>
        </p:spPr>
      </p:pic>
      <p:sp>
        <p:nvSpPr>
          <p:cNvPr id="15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  <a:ea typeface="Arial"/>
              </a:rPr>
              <a:t>y = -│x │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61" name="Picture 2" descr="http://t0.gstatic.com/images?q=tbn:ANd9GcQ2HTiFzrEdIDpgHTabub4GZ2eioCGCh3SeFhpX8LnZrBQw-eIhxSIIAa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" y="1828800"/>
            <a:ext cx="5715000" cy="2952720"/>
          </a:xfrm>
          <a:prstGeom prst="rect">
            <a:avLst/>
          </a:prstGeom>
          <a:ln w="0">
            <a:noFill/>
          </a:ln>
        </p:spPr>
      </p:pic>
      <p:sp>
        <p:nvSpPr>
          <p:cNvPr id="162" name="TextBox 4"/>
          <p:cNvSpPr/>
          <p:nvPr/>
        </p:nvSpPr>
        <p:spPr>
          <a:xfrm>
            <a:off x="3982680" y="5715000"/>
            <a:ext cx="465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rule, but now it makes it look d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3" descr="C:\Documents and Settings\275602\Local Settings\Temporary Internet Files\Content.IE5\GUNV34DJ\MC900440412[1].wmf"/>
          <p:cNvPicPr/>
          <p:nvPr/>
        </p:nvPicPr>
        <p:blipFill>
          <a:blip r:embed="rId3"/>
          <a:stretch/>
        </p:blipFill>
        <p:spPr>
          <a:xfrm>
            <a:off x="8001000" y="6176880"/>
            <a:ext cx="839880" cy="681120"/>
          </a:xfrm>
          <a:prstGeom prst="rect">
            <a:avLst/>
          </a:prstGeom>
          <a:ln w="0">
            <a:noFill/>
          </a:ln>
        </p:spPr>
      </p:pic>
      <p:sp>
        <p:nvSpPr>
          <p:cNvPr id="164" name="TextBox 5"/>
          <p:cNvSpPr/>
          <p:nvPr/>
        </p:nvSpPr>
        <p:spPr>
          <a:xfrm>
            <a:off x="4124520" y="2133720"/>
            <a:ext cx="197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flection of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ent-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8" descr="C:\Users\user\AppData\Local\Microsoft\Windows\Temporary Internet Files\Content.IE5\RKD2LOJ0\MC900440516[1].wmf"/>
          <p:cNvPicPr/>
          <p:nvPr/>
        </p:nvPicPr>
        <p:blipFill>
          <a:blip r:embed="rId4"/>
          <a:stretch/>
        </p:blipFill>
        <p:spPr>
          <a:xfrm>
            <a:off x="7696080" y="2819520"/>
            <a:ext cx="1447920" cy="18288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9" descr="C:\Users\user\AppData\Local\Microsoft\Windows\Temporary Internet Files\Content.IE5\M5XL5LPK\MM900282742[1].gif"/>
          <p:cNvPicPr/>
          <p:nvPr/>
        </p:nvPicPr>
        <p:blipFill>
          <a:blip r:embed="rId5"/>
          <a:stretch/>
        </p:blipFill>
        <p:spPr>
          <a:xfrm>
            <a:off x="0" y="5105520"/>
            <a:ext cx="1219320" cy="1752480"/>
          </a:xfrm>
          <a:prstGeom prst="rect">
            <a:avLst/>
          </a:prstGeom>
          <a:ln w="0">
            <a:noFill/>
          </a:ln>
        </p:spPr>
      </p:pic>
      <p:sp>
        <p:nvSpPr>
          <p:cNvPr id="16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76320"/>
            <a:ext cx="7772400" cy="142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Practice Time!!!</a:t>
            </a:r>
            <a:br>
              <a:rPr sz="4400"/>
            </a:b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Algebra Aerobics!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Rectangle 3"/>
          <p:cNvSpPr/>
          <p:nvPr/>
        </p:nvSpPr>
        <p:spPr>
          <a:xfrm>
            <a:off x="0" y="1447920"/>
            <a:ext cx="434340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) y =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│x - 1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) y =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│x +3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) y =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│x │ +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) y =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│x│ -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) y =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│x + 3│ + 3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5"/>
          <p:cNvSpPr/>
          <p:nvPr/>
        </p:nvSpPr>
        <p:spPr>
          <a:xfrm>
            <a:off x="4572000" y="1371600"/>
            <a:ext cx="4572000" cy="55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) y =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│x - 1│+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7) y = -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│x - 6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8) y = -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│x │-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9)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│x│+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 = -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0) y = -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│x + 1│ - 1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Mix Algebra Aerobic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914400" y="1600200"/>
            <a:ext cx="27432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 =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│x - 4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762120" y="3657600"/>
            <a:ext cx="2590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 =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│x + 5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3057120" y="5715000"/>
            <a:ext cx="2445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 =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│x │ +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6010920" y="1828800"/>
            <a:ext cx="302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 = -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│x + 2│ - 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6"/>
          <p:cNvSpPr/>
          <p:nvPr/>
        </p:nvSpPr>
        <p:spPr>
          <a:xfrm>
            <a:off x="5853240" y="3733920"/>
            <a:ext cx="292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 = -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│x - 7│ +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846360" y="5257800"/>
            <a:ext cx="224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4x + 3y ≤ 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8"/>
          <p:cNvSpPr/>
          <p:nvPr/>
        </p:nvSpPr>
        <p:spPr>
          <a:xfrm>
            <a:off x="6176520" y="5181480"/>
            <a:ext cx="99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y ≥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9"/>
          <p:cNvSpPr/>
          <p:nvPr/>
        </p:nvSpPr>
        <p:spPr>
          <a:xfrm>
            <a:off x="3813840" y="4495680"/>
            <a:ext cx="101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x ≥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0"/>
          <p:cNvSpPr/>
          <p:nvPr/>
        </p:nvSpPr>
        <p:spPr>
          <a:xfrm>
            <a:off x="3359160" y="2819520"/>
            <a:ext cx="190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 ≥ -3x -1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Review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84" name="Picture 2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8305920" cy="5029200"/>
          </a:xfrm>
          <a:prstGeom prst="rect">
            <a:avLst/>
          </a:prstGeom>
          <a:ln w="0">
            <a:noFill/>
          </a:ln>
        </p:spPr>
      </p:pic>
      <p:sp>
        <p:nvSpPr>
          <p:cNvPr id="18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Review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87" name="Picture 2" descr=""/>
          <p:cNvPicPr/>
          <p:nvPr/>
        </p:nvPicPr>
        <p:blipFill>
          <a:blip r:embed="rId1"/>
          <a:stretch/>
        </p:blipFill>
        <p:spPr>
          <a:xfrm>
            <a:off x="1143000" y="1486080"/>
            <a:ext cx="7696080" cy="5371920"/>
          </a:xfrm>
          <a:prstGeom prst="rect">
            <a:avLst/>
          </a:prstGeom>
          <a:ln w="0">
            <a:noFill/>
          </a:ln>
        </p:spPr>
      </p:pic>
      <p:sp>
        <p:nvSpPr>
          <p:cNvPr id="18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330033"/>
                </a:solidFill>
                <a:uFillTx/>
                <a:latin typeface="Times New Roman"/>
              </a:rPr>
              <a:t>Home-Learning Assignment #5 Review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Review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90" name="Picture 2" descr=""/>
          <p:cNvPicPr/>
          <p:nvPr/>
        </p:nvPicPr>
        <p:blipFill>
          <a:blip r:embed="rId1"/>
          <a:stretch/>
        </p:blipFill>
        <p:spPr>
          <a:xfrm>
            <a:off x="762120" y="1666800"/>
            <a:ext cx="8153280" cy="5191200"/>
          </a:xfrm>
          <a:prstGeom prst="rect">
            <a:avLst/>
          </a:prstGeom>
          <a:ln w="0">
            <a:noFill/>
          </a:ln>
        </p:spPr>
      </p:pic>
      <p:sp>
        <p:nvSpPr>
          <p:cNvPr id="19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Verbal Comprehension Analysi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9144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ph the functions y 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│x │ and y = │x - 3 │ together on the same coordinate pla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hat effect does the 3 have on the grap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raph the functions y = │x │ and y = │x │- 3 on the same coordinate pla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hat effect does the 3 have on the grap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raph the functions y = │x │ and y = - │x │ together on a coordinate pla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hat effect does the negative sign have on the graph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Wrap-up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 key po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 vocabulary w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--- Reminder ---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y for Exam #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Linear Inequalities, Systems of Inequalities, &amp; Graphing Absolute Value Equatio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Quiz #8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Graphing Absolute Value Equations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I make one of those V graph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"/>
          <p:cNvPicPr/>
          <p:nvPr/>
        </p:nvPicPr>
        <p:blipFill>
          <a:blip r:embed="rId1"/>
          <a:stretch/>
        </p:blipFill>
        <p:spPr>
          <a:xfrm>
            <a:off x="0" y="914400"/>
            <a:ext cx="1676520" cy="18288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"/>
          <p:cNvPicPr/>
          <p:nvPr/>
        </p:nvPicPr>
        <p:blipFill>
          <a:blip r:embed="rId2"/>
          <a:stretch/>
        </p:blipFill>
        <p:spPr>
          <a:xfrm>
            <a:off x="0" y="5057640"/>
            <a:ext cx="1347840" cy="18003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"/>
          <p:cNvPicPr/>
          <p:nvPr/>
        </p:nvPicPr>
        <p:blipFill>
          <a:blip r:embed="rId3"/>
          <a:stretch/>
        </p:blipFill>
        <p:spPr>
          <a:xfrm>
            <a:off x="7391520" y="5105520"/>
            <a:ext cx="1752480" cy="17524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"/>
          <p:cNvPicPr/>
          <p:nvPr/>
        </p:nvPicPr>
        <p:blipFill>
          <a:blip r:embed="rId4"/>
          <a:stretch/>
        </p:blipFill>
        <p:spPr>
          <a:xfrm>
            <a:off x="7000920" y="0"/>
            <a:ext cx="2143080" cy="16002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"/>
          <p:cNvPicPr/>
          <p:nvPr/>
        </p:nvPicPr>
        <p:blipFill>
          <a:blip r:embed="rId5"/>
          <a:stretch/>
        </p:blipFill>
        <p:spPr>
          <a:xfrm>
            <a:off x="3429000" y="0"/>
            <a:ext cx="1752480" cy="1523880"/>
          </a:xfrm>
          <a:prstGeom prst="rect">
            <a:avLst/>
          </a:prstGeom>
          <a:ln w="0">
            <a:noFill/>
          </a:ln>
        </p:spPr>
      </p:pic>
      <p:sp>
        <p:nvSpPr>
          <p:cNvPr id="122" name="Місце для нижнього колонтитула 1"/>
          <p:cNvSpPr/>
          <p:nvPr/>
        </p:nvSpPr>
        <p:spPr>
          <a:xfrm>
            <a:off x="33544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Absolute value transformation</a:t>
            </a:r>
            <a:br>
              <a:rPr sz="4200"/>
            </a:b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Vocabulary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ransl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shifts the parent function graph horizontally and vert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eflectio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t creates a mirror image of the parent-function graph across the line of reflec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arent Function 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  <a:ea typeface="Arial"/>
              </a:rPr>
              <a:t>y = │x │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7" name="Picture 2" descr="http://schoolwires.henry.k12.ga.us/437520715143758627/lib/437520715143758627/absolute_value_function_graph.gif"/>
          <p:cNvPicPr/>
          <p:nvPr/>
        </p:nvPicPr>
        <p:blipFill>
          <a:blip r:embed="rId1"/>
          <a:stretch/>
        </p:blipFill>
        <p:spPr>
          <a:xfrm>
            <a:off x="762120" y="1752480"/>
            <a:ext cx="7816680" cy="44197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C:\Users\user\AppData\Local\Microsoft\Windows\Temporary Internet Files\Content.IE5\NNA2BYPD\MC900446036[1].wmf"/>
          <p:cNvPicPr/>
          <p:nvPr/>
        </p:nvPicPr>
        <p:blipFill>
          <a:blip r:embed="rId2"/>
          <a:stretch/>
        </p:blipFill>
        <p:spPr>
          <a:xfrm>
            <a:off x="7391520" y="5005440"/>
            <a:ext cx="1752480" cy="18525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C:\Users\user\AppData\Local\Microsoft\Windows\Temporary Internet Files\Content.IE5\M5XL5LPK\MC900292252[1].wmf"/>
          <p:cNvPicPr/>
          <p:nvPr/>
        </p:nvPicPr>
        <p:blipFill>
          <a:blip r:embed="rId3"/>
          <a:stretch/>
        </p:blipFill>
        <p:spPr>
          <a:xfrm flipH="1">
            <a:off x="0" y="5124600"/>
            <a:ext cx="1168560" cy="173340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Vertical Movements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solute value ru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you have minus outside the absolute value, you move down on the coordinate plan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y =│x│-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you have addition outside the absolute value, you move up on the coordinate plan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y =│x│+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" descr="C:\Documents and Settings\275602\Local Settings\Temporary Internet Files\Content.IE5\L9JD6LDM\MC900434411[1].wmf"/>
          <p:cNvPicPr/>
          <p:nvPr/>
        </p:nvPicPr>
        <p:blipFill>
          <a:blip r:embed="rId1"/>
          <a:stretch/>
        </p:blipFill>
        <p:spPr>
          <a:xfrm>
            <a:off x="7162920" y="228600"/>
            <a:ext cx="1041120" cy="1171440"/>
          </a:xfrm>
          <a:prstGeom prst="rect">
            <a:avLst/>
          </a:prstGeom>
          <a:ln w="0">
            <a:noFill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Lets practice!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09480" y="152388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 =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│x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4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 =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│x│+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Your turn!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 =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│x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7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 =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│x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4T21:06:11Z</dcterms:created>
  <dc:creator>Jane Neff</dc:creator>
  <dc:description/>
  <dc:language>en-US</dc:language>
  <cp:lastModifiedBy>LEGION</cp:lastModifiedBy>
  <dcterms:modified xsi:type="dcterms:W3CDTF">2017-07-06T06:35:02Z</dcterms:modified>
  <cp:revision>58</cp:revision>
  <dc:subject/>
  <dc:title>Graphing Absolute Value Equations</dc:title>
</cp:coreProperties>
</file>